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E72-74F0-4608-A19D-22072538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9DC-E222-49EB-8C31-31F5569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FBE-A994-486A-9C46-5370A813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182-1959-4DDB-811F-069F105A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E3A-5B84-4C28-B3DA-F46C0960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68E-80D9-45D6-A280-FD987B8E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F64-4375-4A0C-B909-DAF025A1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998-16DC-4B00-A6AA-516E6CAB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EFB-1437-4AC6-AD46-68020E5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EF5-04CC-4441-BAE7-932FC50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453-DBCE-415F-8C30-F2FB07F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482-410E-48E0-81A4-C6027FE1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51A8-96D3-4864-916F-369D54B1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1295280" cy="222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1523880" cy="131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1790640" cy="12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666880" y="3276720"/>
            <a:ext cx="1752840" cy="11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0" y="3886200"/>
            <a:ext cx="1828800" cy="16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0" y="7010280"/>
            <a:ext cx="175248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438280" y="7442280"/>
            <a:ext cx="198144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952880" y="6400800"/>
            <a:ext cx="162396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0" y="1066680"/>
            <a:ext cx="20574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1828800" cy="131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23960" cy="24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00600" y="838080"/>
            <a:ext cx="1893960" cy="17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90920" y="3352680"/>
            <a:ext cx="174312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4280" y="3352680"/>
            <a:ext cx="1593720" cy="24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514600" y="533520"/>
            <a:ext cx="1857240" cy="222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895480" y="6284880"/>
            <a:ext cx="1609920" cy="2533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228600" y="6629400"/>
            <a:ext cx="19810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3008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19520" y="0"/>
            <a:ext cx="114768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1557360" cy="1833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666880" y="3606840"/>
            <a:ext cx="871560" cy="21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505320" y="3352680"/>
          <a:ext cx="1011240" cy="247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3352680"/>
                    <a:ext cx="101124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2-03T19:46:26Z</dcterms:modified>
  <cp:revision>10</cp:revision>
  <dc:subject/>
  <dc:title>Slide 1</dc:title>
</cp:coreProperties>
</file>